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FAD-F727-474B-88F9-D8F79673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138-CC25-4E43-AA6F-9DD75719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E859A-B29C-4CFD-B028-52780799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DEEB3-93A5-412F-A76D-4FD4D2D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ABE60-E4D4-4574-8EBB-3CCBF306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4F774-2747-4F90-BDB1-6E5BBA5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AF291-6320-4247-BBD4-FF43DB7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44C1A-68A9-420D-BE9D-B7EB30B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BE6D3-69BD-433C-ABA5-23FDAB1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95A4-B951-4B23-936F-3E276D56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03F7D-5CA3-4704-96AC-40299180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38BFD-6FBC-4C25-9C1E-3F221B73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9B9-5A83-484F-8F51-9DC7EE70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8439E-2A32-4C4D-AC8E-666A59A7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C238E-6E5D-4A6F-9321-BA38D30A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397DD-75AD-4E03-B8B5-7AB5B84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9FA50-CBEC-4257-BFA0-2BC999D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C522E-DF77-429F-BA10-97CEC279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75E5F-A651-45A3-8E4B-BB42C89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B3137-214A-43DE-B04F-D7C4EBA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21A55-1B54-40F7-9033-7462619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7E99-852A-4EB4-9E82-9B3E1309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A43B1-998B-425C-A8B0-C2AE8ACF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E90-3CD7-4D01-B1DC-58622035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8ABB9-434F-4E35-8008-71B81E03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FE83-CA04-43E5-8F2B-066120C3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F79A-3468-43CF-A41B-4C7F7488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18DCF-8ACC-4E03-BECE-890E0F3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EE06F-9257-4B8E-9587-7ED35FBB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70E62-7090-4CB2-B2EB-061472B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AC8F0-51BE-478B-BD41-26A85BB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20FC8-1CC9-4F4B-9655-AE3C5C2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BEF60-4DB8-47AB-A2E0-37590EF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132F-8DA9-4EE9-BC4D-9785791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043E-9382-4E41-9FB9-847D1B89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F512-1A83-4987-BEF4-5B50AB8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32848-F362-4186-A426-4D67F2AB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5027A-842D-46C4-AE45-A33027FD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B8EB6-C103-4EC8-829C-6F4DADDD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29554-BDB3-4070-AC0A-3C266F2D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35B89-C9C0-4620-915B-6F83F86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BDE3A-8450-45AC-916B-014EAC05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522FD-5B22-4B22-9D4F-0503AA44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D975D-ABB8-49C3-8816-FE0E94D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9C0E-80BB-446F-899E-684868D2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96F-ADBE-41EA-A207-3E5E41D3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DF886-4F92-4C5E-948C-52B6117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BEE80-382F-45C6-89A4-0E4D1E74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73BF6-336C-44CE-A46F-1F8ED149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DC36-D8A4-484D-8EF7-5EF937E0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C2BD3-E1BA-48EB-BC96-BB4249C0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5E6C5-E9CD-4B9E-ABF2-87FC761F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00983-40FF-47B7-B9AF-4349D2F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4378E-B8DD-4878-A040-C8006C0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80AC4-41F7-4D84-8361-21AB3B2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26454-0327-468C-B560-707A569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C160-475F-4AD7-9EDD-DB6F8BCB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3CB81-084D-44B0-9E57-BABA7C27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54178-020D-4F7A-8A99-B534207B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EF6A3-CECA-4939-B9A2-866D1BAE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C34D8-B834-434F-8A65-87B39815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8E37C-C471-4A39-8057-536FCC31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BA11D-FD50-43F1-8FA6-EA19667C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B1D4E-FB36-49C3-833A-E426C3D1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A6FB3-AEFE-4712-861D-39E28684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2E65C-DE6D-41EB-B9C7-1D2AE54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8DA4D-4338-430B-A0AB-CC72AC6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E18-B273-4DFF-8B29-B03A008F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355B3-7E84-4C9C-968A-9A162FFC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AF2E9-4E85-42C1-9918-5BA3CBC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58071-3E6D-4025-9DBE-BA845F5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7E391-0518-43ED-9F98-1DAE01B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6F12C-63B5-4BE6-9F57-95F07D9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58E81-E822-424B-BC26-4B1842C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CC6B2-162A-4E45-AE40-13419063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813A1-1A99-444D-9781-7D05DFAA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5BDD0-1666-4152-BDA0-42AE0376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4E548-FB9B-425D-96EB-F8008F8B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BC7-3457-43DD-948B-1155C4EF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E9999-E04A-4B42-AB46-69D0422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E5DD8-E968-4324-86A7-9931335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74800-2A73-44B3-8CBB-941492D9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43E56-252D-450E-861E-D918F2CF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B941F-976F-4D92-B76D-58A40D9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3A13B-AFB5-4062-8CEF-DB1CCD44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D1F47-493A-4075-AAA8-503A824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EB54B-5D77-46BE-A937-B815D14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F5507-A517-4BE8-B629-6C5AC4DD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AF41E-9C18-4D83-8C5F-83FEA261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AE43-AB07-4819-B493-AA25FC29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4F95E-5326-4565-81A3-4A4E9FE5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797EA-D545-45BF-AA78-B26F1B5D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F1954-1E63-4364-B89A-93E5F8FA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EDCE5-B254-4CE5-A6F6-7026ADE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D8493-008B-4421-9A1F-A95573E1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DC65A-453F-4D1C-99FB-2895B16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7700B-AA7C-4138-BDE9-CDE97225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B80AD-340A-44AA-BA11-FD49A6A3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7216E-75FB-4E8E-BC16-9654DC6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75C85-4C35-4CBB-BCF2-B7C6384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148F-E5E1-49A3-A4A6-F63F884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5A9CA-F2F5-4BC7-8B34-FB0C7383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F7AEF-95D3-4AAC-99A2-A1F1B301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9CA78-4704-4E81-B157-A3CB6F2A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A39-1681-43A3-8589-012FCF4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2520-F4F0-48E1-81B1-0578A6C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6A93-5C9F-4646-8FA0-BDB7B0B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7BDA-3F95-4655-81E3-5391916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4544-88C9-4099-B697-4E14A67F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0A05-FC74-4CFE-86EF-C48D9DFD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8594-6BB1-4D0C-A8D9-34CEC632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6DC5-E9F8-4AD4-974E-8A46F93C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C19B-CFEF-4783-BDEB-63A2103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50AB-8E1A-4633-B6CB-37316E6F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5766-AC20-4C56-BC9A-A45FAB81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513-E04C-489F-AA9D-BDB28448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7D29-1BC0-4BAA-AF05-80D7FF5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AF02-6F16-4F32-851A-7CDDC98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2A0A-34AD-4269-94C5-3F59680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B22F-D1D1-49D0-BF1D-6CA33D1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4412-4C1F-471D-BEDE-926ACA4B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CD16-977E-43A6-BCAC-8592584C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BA2A-3A31-4517-9E40-27E444A1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E899-F645-4000-A597-9F84D983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F5D0-0312-4DB5-83E2-6FAADA1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CCD4-3893-4FC8-B774-12B3264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F84-AAC7-465C-B51E-766A8320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81A1-F3B5-4106-97C3-91DC65C0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2F98-17B6-4B53-A33F-DDB1F96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F773-86D9-4ADC-B117-1764F0C6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B23F-2BF2-43D3-A330-65CBFCC3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C819-8415-48B5-AB60-0452606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BA0E-9537-4EBC-9D05-BC98BFC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BB29-70FF-4734-AB47-2C0D363C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75BD-B9BA-4FDD-9811-0652CA37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4001-AD9B-4542-BA57-3E1A6942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CE2D-57FC-48D9-AD4E-1F9D5468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4D9-F958-43D7-A33B-8D0AABA1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E214-8B1F-4B74-BCA0-5241137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F0F5-D2FE-48C8-B159-7E47F82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E2CD9-EF5B-4150-99D2-670F444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C050-D5C8-48CF-A6A7-E38B444E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078BC-F0BA-4044-AD3F-CE69164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9AEC-08D8-4FC2-A079-E56527BC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8C4B-2844-4D81-A5CA-FBF1F4C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0FFE-26ED-4BAE-81CE-07C5413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343BD-1D1A-4325-B8BD-A98C6E40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3DD6-BFE6-43A2-B7D3-B4144CD4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5CF-F14D-4D13-885C-544A020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FED4-63EE-446B-9C2A-16833A00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FDD1-60CD-412E-B6F5-B04B5B5C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F211-EBAB-4E55-A040-71030A04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9851-5C3D-43C1-9EF3-FB21DBEE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68880-CF36-46A6-A62C-7B70EE6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53B8-9F20-49C0-8667-FEA9772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C6BA-46C2-42D6-96A2-1A29A0AC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A5A5-3E9F-4AA5-9D7C-FB92E93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6EC1-B17C-4667-8361-96E228EC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4CF6E-83E8-43B4-A158-58CF304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1FE-B3B6-462D-AFD2-321FE75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810E5-FEBE-4790-943F-EBBFC8F6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4C57B-E7C4-4F0C-B4D3-C43BEB2B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9D2B-67C2-49B6-8E89-59B577A6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BF20-6D4F-4BDD-A9C8-010B40E7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7103-0136-4B77-A21B-D8AA6F53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58E0F-E248-4112-A73E-75D7272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B27E-8ADC-4E6B-AE97-4F7FF54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4A5A5-ADC5-4FA4-96AD-435B58B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92B2-5D68-461E-8110-699D89B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3881-D433-4447-A0E1-3507A7A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114-2AFE-46F7-9B62-51B681C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81368-2145-4989-B8EE-9FC55DC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4077-8079-4450-A829-755104F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95CE4-5CAF-44EE-9447-720EA796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62373-34B0-431E-9C4A-2F0EA774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2BF5C-2D6D-4FC7-9F92-3F0CED89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539DA-6D62-46FA-9864-FDA0515A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DACF-F1A2-412F-B0E1-C2E877A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DCF7E-BA1B-439E-9A0A-F350393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184E5-0F12-4498-9AD2-3E3032F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3E04-B321-4344-B5D6-E7D14991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C51-600B-4EDC-87AC-E63DCCD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0AC3A-93D3-4990-B950-066F3B2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D6D8A-A950-4310-8B33-B19DD7A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BF71-B4B0-4E50-9A4C-CD30669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5E7A-3874-4D6E-9364-3AC8583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D2E21-56A5-44CB-982B-706F7C5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0258-26B7-45E7-89CF-9CF936CA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D334-68FE-4FAA-94FB-B75AAB45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41BF7-EC28-4779-B660-C98DACB9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09CA7-3C70-48E5-A989-05216F3F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142D3-0D1E-4782-A7A4-07BA6AF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369-23C7-4929-91CE-4DF40B1805F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E07-AFDE-453E-B67C-FF3E73E8C2C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E817-52B0-41AC-99E9-18B9F6D578E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47C-EDB4-4513-93B2-4E60DAF506C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C3A2-5B6F-4FFB-9D20-156C26585AC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CAE9-1EF6-4667-9862-96DCF5EC065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741D-4752-4179-9274-6E68D7CD09D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F84-BA6C-42B8-8AAE-40EC3C4F446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95A4-3F5A-4C8C-A956-03B06CC891A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549-F94A-4D20-8333-CBC9CAA4A09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259-50D6-455E-93E3-C98B8D59BC0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505-3EBD-4F53-B113-809DDF75422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24DC-E670-4380-A2E7-E99224859AE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6F7-93EB-4E23-B20A-32DCB7A51B4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82E5-618A-46D8-A4D1-6D1A7D07A5B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DF02-00BB-4053-A69C-BE57827E1F9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75C4-E7F9-415A-8C25-22F9B538446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A6E-E219-428A-9757-183C53D7CFC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414C-F04C-47C1-AEEB-2051D09B006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A0D-9AEA-4797-AFD1-3BFB0F6E123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E457-0864-4280-A757-AFA390BB804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0D92-94E7-45B5-A6C0-6BFD6056556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9B9-B437-40B4-A647-88735BC30AF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E6C7-6DDC-4E53-A165-772CD39EE6B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8BF-3BC2-4BDC-9965-A8619D205A8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2735-95B3-40A2-B65A-95D5DD6B3CF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73C-6883-48F8-A5FC-3DFCC100DBA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36C-D254-48BB-9A7D-47D2ADCAA9B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86D-4BFE-455B-A634-41CFBF9318B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968-A27A-4E8F-85D6-32C010CC199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EDD-4AA3-4532-B22D-F1880ED4B12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E2C-6CCC-4964-A749-7E0EFAF167D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2" descr=""/>
          <p:cNvPicPr/>
          <p:nvPr/>
        </p:nvPicPr>
        <p:blipFill>
          <a:blip r:embed="rId3"/>
          <a:stretch/>
        </p:blipFill>
        <p:spPr>
          <a:xfrm>
            <a:off x="652320" y="3213000"/>
            <a:ext cx="783936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Sp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-mail Invitation or Click “Join” but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Join if you haven’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eck e-mail for Invit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-mail address comes from e-commun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pdate your profil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Add a Picture (nice but not required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3" marL="1639800" indent="-2952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Use your e-community picture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aborative Web Pa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Add material to any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Edit material already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Delete material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Create a new page with new materi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ext cont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yperlink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ebPages, Podcasts, Video, Audio, etc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 Pages to Updat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ccounting Syste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ta Mode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eliverabl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 SAD Wiki chapter 9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gn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course agre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August 30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m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oup Assignmen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9200" indent="-349200">
              <a:lnSpc>
                <a:spcPct val="90000"/>
              </a:lnSpc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Teams of at least 5, no more then 6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ject requirement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rief Description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ailed Narrative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 &amp; A Tab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(context, level-0, and level-1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Implemented via Wiki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cess will come from Process Classification Framework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504-6754-4483-8D0B-47AD63B93700}" type="slidenum">
              <a:rPr b="0" lang="en-US" sz="11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hat to Expec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 fontScale="99000"/>
          </a:bodyPr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arning the concepts of A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(old Chinese proverb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lying the concepts (Group Cas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Aristotl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648320" y="1981080"/>
            <a:ext cx="384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ings/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yllabus Highligh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r. Steven Horni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hornik@bus.ucf.ed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http://acg6415.wikispaces.com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fice Hours: Monday &amp; Wednesday 3:00 – 4:0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; and by appoint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ffice: BA1 43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Meebo Widget in Wikispa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Accountants Guide to XBRL 4th  ed., by Clinton E Whit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ailable only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orbel"/>
              </a:rPr>
              <a:t>http:www.skipwhite.co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0099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ystems Analysis and Design Wik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pter 2 and 9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Gliff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count – Web Based Modeling t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e Componen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1 (Data Models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2 (XBRL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siness Process Model (Group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 Assignment (6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ticipation (Wiki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2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 Points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3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ing Sca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articip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cture’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Ask Questions, New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W /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Prepared to discu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ality of po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Exam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ch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hort-answ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blem solving / model buil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eneral Course Objectiv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ain Understanding of XBR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BL and XBRL-G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4:45:46Z</dcterms:created>
  <dc:creator>shornik</dc:creator>
  <dc:description/>
  <cp:keywords/>
  <dc:language>en-US</dc:language>
  <cp:lastModifiedBy>Steven Hornik</cp:lastModifiedBy>
  <dcterms:modified xsi:type="dcterms:W3CDTF">2010-08-23T15:03:09Z</dcterms:modified>
  <cp:revision>3</cp:revision>
  <dc:subject/>
  <dc:title>ACG 5405 Intro</dc:title>
</cp:coreProperties>
</file>